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9600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480" y="39459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6800" y="39459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9600" y="3945960"/>
            <a:ext cx="273564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49600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480" y="39459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96000" cy="25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86040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 Antiqua"/>
              </a:rPr>
              <a:t>Embedded System PRJ Plots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Book Antiqua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 JPEG Decoder Implementation</a:t>
            </a:r>
            <a:endParaRPr b="1" lang="en-US" sz="28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284720" y="4316040"/>
            <a:ext cx="44640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roup No: II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embers:  Steve, Sean, Ste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dvisor :  Stephen Edwards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ate: 2005.08.24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"/>
          <p:cNvSpPr/>
          <p:nvPr/>
        </p:nvSpPr>
        <p:spPr>
          <a:xfrm>
            <a:off x="4356000" y="4292640"/>
            <a:ext cx="360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4000" y="5084640"/>
            <a:ext cx="12236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44720" y="1054080"/>
            <a:ext cx="4321080" cy="4822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65440" y="3573360"/>
            <a:ext cx="2664000" cy="215928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588000" y="4076640"/>
            <a:ext cx="1944720" cy="18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1884240"/>
            <a:ext cx="72216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PEG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60360" y="1989000"/>
            <a:ext cx="6476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"/>
          <p:cNvCxnSpPr>
            <a:stCxn id="593" idx="3"/>
            <a:endCxn id="594" idx="1"/>
          </p:cNvCxnSpPr>
          <p:nvPr/>
        </p:nvCxnSpPr>
        <p:spPr>
          <a:xfrm flipV="1">
            <a:off x="982440" y="2150280"/>
            <a:ext cx="268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"/>
          <p:cNvSpPr/>
          <p:nvPr/>
        </p:nvSpPr>
        <p:spPr>
          <a:xfrm>
            <a:off x="468720" y="1341360"/>
            <a:ext cx="125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C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1855440" y="457416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GA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857840" y="1533600"/>
            <a:ext cx="16574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264200" y="2278080"/>
            <a:ext cx="0" cy="431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64200" y="2278080"/>
            <a:ext cx="5029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59120" y="2781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3440" y="393228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523200" y="1412640"/>
            <a:ext cx="17280" cy="18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10160" y="4603680"/>
            <a:ext cx="1195200" cy="77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009960" y="2602080"/>
            <a:ext cx="7920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09960" y="1949400"/>
            <a:ext cx="1181160" cy="6552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702400" y="3338640"/>
            <a:ext cx="1440" cy="161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6160" y="400536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42040" y="3726000"/>
            <a:ext cx="742680" cy="639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ter Mode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38520" y="3753000"/>
            <a:ext cx="144000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37080" y="4510080"/>
            <a:ext cx="12240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45800" y="3308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441600" y="2925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251320" y="4724280"/>
            <a:ext cx="906480" cy="655200"/>
            <a:chOff x="5251320" y="4724280"/>
            <a:chExt cx="906480" cy="655200"/>
          </a:xfrm>
        </p:grpSpPr>
        <p:sp>
          <p:nvSpPr>
            <p:cNvPr id="615" name=""/>
            <p:cNvSpPr/>
            <p:nvPr/>
          </p:nvSpPr>
          <p:spPr>
            <a:xfrm>
              <a:off x="5322960" y="4795560"/>
              <a:ext cx="834840" cy="56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51320" y="4724280"/>
              <a:ext cx="863640" cy="655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264200" y="278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84360" y="162864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2023560" y="1817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43480" y="134136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03840" y="2602080"/>
            <a:ext cx="7207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in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48560" y="2628720"/>
            <a:ext cx="423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54640" y="2565000"/>
            <a:ext cx="4237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5933160" y="2288520"/>
            <a:ext cx="1224000" cy="3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opb_bram_i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859280" y="1341360"/>
            <a:ext cx="16574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1917720"/>
            <a:ext cx="1224000" cy="6552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icroBla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41440" y="11714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man"/>
              </a:rPr>
              <a:t>IL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83120" y="1208160"/>
            <a:ext cx="716040" cy="45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ilmbc /dlm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64200" y="1165320"/>
            <a:ext cx="863640" cy="53640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-C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43960" y="13636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man"/>
              </a:rPr>
              <a:t>DL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594" idx="3"/>
            <a:endCxn id="605" idx="1"/>
          </p:cNvCxnSpPr>
          <p:nvPr/>
        </p:nvCxnSpPr>
        <p:spPr>
          <a:xfrm>
            <a:off x="1917360" y="2151000"/>
            <a:ext cx="1083240" cy="61344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11" idx="1"/>
            <a:endCxn id="589" idx="3"/>
          </p:cNvCxnSpPr>
          <p:nvPr/>
        </p:nvCxnSpPr>
        <p:spPr>
          <a:xfrm flipH="1">
            <a:off x="1566360" y="4924440"/>
            <a:ext cx="2052000" cy="55800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633" name=""/>
          <p:cNvSpPr/>
          <p:nvPr/>
        </p:nvSpPr>
        <p:spPr>
          <a:xfrm>
            <a:off x="7237440" y="4233960"/>
            <a:ext cx="1224000" cy="73332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-Chip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37440" y="5056200"/>
            <a:ext cx="1224000" cy="73116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-Chip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77080" y="44337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57800" y="501336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77080" y="5632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4406760"/>
            <a:ext cx="0" cy="124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37080" y="54388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Video EMC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XC3S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56000" y="836640"/>
            <a:ext cx="6264000" cy="5184720"/>
          </a:xfrm>
          <a:prstGeom prst="roundRect">
            <a:avLst>
              <a:gd name="adj" fmla="val 10148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161840" y="95076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tan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67120" y="3286080"/>
            <a:ext cx="403200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7360" y="1341360"/>
            <a:ext cx="2006640" cy="1179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84360" y="436572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89800" y="4076640"/>
            <a:ext cx="5745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88000" y="4076640"/>
            <a:ext cx="0" cy="180036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7360" y="5241960"/>
            <a:ext cx="10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 R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ook Antiqua"/>
              </a:rPr>
              <a:t>Write Cycle</a:t>
            </a: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652" name=""/>
          <p:cNvSpPr/>
          <p:nvPr/>
        </p:nvSpPr>
        <p:spPr>
          <a:xfrm>
            <a:off x="1616040" y="1844640"/>
            <a:ext cx="590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28760" y="18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16000" y="18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86520" y="1843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5240" y="18432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664320" y="1843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953400" y="1843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36000" y="1843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518240" y="18432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800840" y="18432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083440" y="1843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82880" y="227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588000" y="227484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40000" y="2561760"/>
            <a:ext cx="425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5600" y="227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7960" y="22748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20680" y="227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68360" y="22734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62880" y="2273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51600" y="2273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40680" y="2273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29400" y="2273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818480" y="2273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107200" y="22734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8000" y="1701720"/>
            <a:ext cx="5040360" cy="287280"/>
          </a:xfrm>
          <a:prstGeom prst="hexagon">
            <a:avLst>
              <a:gd name="adj" fmla="val 5320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976400" y="2851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581880" y="28512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333520" y="3138480"/>
            <a:ext cx="425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689120" y="2851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01840" y="2851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114560" y="2851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62240" y="28494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5640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4548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23420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2328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1200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01080" y="28494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697040" y="4141800"/>
            <a:ext cx="589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564000" y="3997440"/>
            <a:ext cx="3384360" cy="287280"/>
          </a:xfrm>
          <a:prstGeom prst="hexagon">
            <a:avLst>
              <a:gd name="adj" fmla="val 3572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03280" y="4141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16000" y="4141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97800" y="4141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885080" y="4141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101080" y="4141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080" y="16304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6920" y="2278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1160" y="28544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7080" y="4006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2876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614600" y="34290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685880" y="34290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11600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016760" y="34275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88040" y="37148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37712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296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5168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10108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1880" y="3430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-10476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112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1240" y="404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268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2688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28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288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588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5888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9748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974880" y="404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905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9052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4065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40652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6225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2252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8381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3816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0541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01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7016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4861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8616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7018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70180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9178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91780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1338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13380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3498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4980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5654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6544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7814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78144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9974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97440" y="404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213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21308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429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2908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645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4508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861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61080" y="404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0767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672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2927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29272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5087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0872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7243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2436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9403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4036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1563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15636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3723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37236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5880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58800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68040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0400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70200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02000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23600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3600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74516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5164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66764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66764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-252720" y="-963720"/>
            <a:ext cx="84963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ook Antiqua"/>
              </a:rPr>
              <a:t>Start-of-Line Detail</a:t>
            </a: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885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88508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10108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01080" y="62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3185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31852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53452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53452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87519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751960" y="404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967960" y="40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967960" y="62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4920" y="765000"/>
            <a:ext cx="9289440" cy="450720"/>
            <a:chOff x="34920" y="765000"/>
            <a:chExt cx="9289440" cy="450720"/>
          </a:xfrm>
        </p:grpSpPr>
        <p:sp>
          <p:nvSpPr>
            <p:cNvPr id="799" name=""/>
            <p:cNvSpPr/>
            <p:nvPr/>
          </p:nvSpPr>
          <p:spPr>
            <a:xfrm>
              <a:off x="10764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964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7128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0328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3492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6692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9856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056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6220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9384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2584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5748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8948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2112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5312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84760" y="792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676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840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34920" y="765000"/>
              <a:ext cx="9289440" cy="450720"/>
              <a:chOff x="34920" y="765000"/>
              <a:chExt cx="9289440" cy="450720"/>
            </a:xfrm>
          </p:grpSpPr>
          <p:sp>
            <p:nvSpPr>
              <p:cNvPr id="818" name=""/>
              <p:cNvSpPr/>
              <p:nvPr/>
            </p:nvSpPr>
            <p:spPr>
              <a:xfrm>
                <a:off x="349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980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05040" y="765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4028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755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1076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64600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24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51648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9517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38696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21840" y="765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5744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923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279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56280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9840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3796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7824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31852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758080" y="765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788184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1528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748720" y="792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0800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492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964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6656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7164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9856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40328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33020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3528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6220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26692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9384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9892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2584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3056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05748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6220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8948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9420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92112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2584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35276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85784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78476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8948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21640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2148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4840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5312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08004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8512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1204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01676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94368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44840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7568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88040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80732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12040" y="113364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238960" y="1106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744040" y="113364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670960" y="1106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800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92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3964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6656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9856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328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3020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83672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6364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26836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19564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0036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2728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200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5928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6400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49092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99564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92256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42764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5456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85928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78620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9128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1820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2292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984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5456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08184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8656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51348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01820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94548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45020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37712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88184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80876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313840" y="149400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240760" y="14670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745480" y="149400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672400" y="1467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0800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92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3964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656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97164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9856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40328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33020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83672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76364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26836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9564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70036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13200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5928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56544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9236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9744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2436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42908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35600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6108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78800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29272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21964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2436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65164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5636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08328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58800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51528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02000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4692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45164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37856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883640" y="1871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81056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31528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242200" y="1844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750160" y="1871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677440" y="1844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920" y="2276640"/>
            <a:ext cx="90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270972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403280" y="2493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032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6192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509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2669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4829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69892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91456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13056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34656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5622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7782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9942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1020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42584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184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784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0734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2894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5054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72148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9371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1531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6912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58512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0076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1676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23276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4484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6644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8040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09640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31204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52804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744040" y="2494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959680" y="2494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35280" y="35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835280" y="3502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66920" y="35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266920" y="371808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0" y="3719520"/>
            <a:ext cx="18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050920" y="3503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292720" y="35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292720" y="3502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24360" y="35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724360" y="3718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508720" y="350352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22920" y="37195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8748720" y="3503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8748720" y="3503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9180360" y="3503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964720" y="35053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80" y="307008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1407960" y="2854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4079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6239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8399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05596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27160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8760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70360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92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1352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3512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56724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828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9988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2148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43088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4652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86252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07852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941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5101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72616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94216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5780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37380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58980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054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0214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744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45344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690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8850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810108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31708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53272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748720" y="285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8964720" y="2854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357720"/>
            <a:ext cx="48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2520" y="3141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6252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7852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9416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51016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2616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94216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15780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37380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8980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80544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02144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23744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45344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66908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88508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10108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1708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53272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748720" y="3141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8964720" y="3141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050920" y="3859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050920" y="3859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482920" y="3859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82920" y="407520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-360" y="4076640"/>
            <a:ext cx="2050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266920" y="386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508720" y="3859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508720" y="385920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940360" y="3859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940360" y="4075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724360" y="3860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938920" y="407664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8964720" y="3860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964720" y="3860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266920" y="4216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266920" y="42163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698920" y="4216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98920" y="4432320"/>
            <a:ext cx="3025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-360" y="4438800"/>
            <a:ext cx="22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482920" y="42181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5724360" y="4216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24360" y="42163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156360" y="4216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156360" y="4432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940360" y="42181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54560" y="44337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482920" y="45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482920" y="4581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914560" y="45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14560" y="47973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-360" y="4797000"/>
            <a:ext cx="2482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698920" y="45831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5940360" y="45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40360" y="4581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6372360" y="45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372360" y="4797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156360" y="4583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370560" y="4797000"/>
            <a:ext cx="277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2482920" y="4938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348000" y="4938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348000" y="515628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-360" y="515628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5940360" y="4938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802560" y="5156280"/>
            <a:ext cx="234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484360" y="4941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804000" y="4941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0360" y="4944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-325440" y="5734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132000" y="5300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0" y="5518080"/>
            <a:ext cx="31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32000" y="5302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348000" y="53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3348000" y="5518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588000" y="5302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88000" y="5303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804000" y="53038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804000" y="551808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130560" y="5734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586560" y="5734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26028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982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142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982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60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142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302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3142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316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302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62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5302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476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462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8618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746280" y="49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636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9619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0778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9619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7964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1779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12938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11779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2952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13939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15098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3939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5112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16095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7254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16095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7272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255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9414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8255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94328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20415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1574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0415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1589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22575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23734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2575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749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4732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25891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4732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5909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26892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28051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6892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8065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052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0211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9052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0225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1212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2367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121200" y="49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2385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3368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4527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3368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45456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5528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6687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5528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6702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7688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8847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7688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9844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1004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9844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1022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2004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3164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2004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3178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4164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5324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4164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5338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6324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7480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632480" y="49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7498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48481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9640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8481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96584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0641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1800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0641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1814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2801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3960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2801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974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4957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6116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4957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6134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7117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8276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57117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2948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59277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60436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9277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451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14376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25968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614376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2611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3594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64753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3594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47712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5754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913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5754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927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7914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0732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679140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087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0740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71229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007400" y="49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12476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72230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73389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72230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34076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74390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75549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74390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75564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765504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77096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765504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8706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79866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78706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98840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80866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82026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80866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2040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83026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1860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830268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4200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851868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86342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8518680" y="49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63604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87343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88502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87343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8852040" y="257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8950320" y="50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9066240" y="4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8950320" y="49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9067680" y="257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403280" y="6091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03280" y="609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835280" y="6091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0" y="630864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19280" y="60930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1835280" y="630864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4859280" y="60926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859280" y="60930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5291280" y="60926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075280" y="609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315280" y="6094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315280" y="6094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747280" y="6094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531280" y="60958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219640" y="6292800"/>
            <a:ext cx="4022640" cy="576360"/>
            <a:chOff x="5219640" y="6292800"/>
            <a:chExt cx="4022640" cy="576360"/>
          </a:xfrm>
        </p:grpSpPr>
        <p:sp>
          <p:nvSpPr>
            <p:cNvPr id="1326" name=""/>
            <p:cNvSpPr/>
            <p:nvPr/>
          </p:nvSpPr>
          <p:spPr>
            <a:xfrm flipH="1">
              <a:off x="5291280" y="62946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8747280" y="6292800"/>
              <a:ext cx="396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29272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21964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2616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5308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57800" y="6445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84720" y="6418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8980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1672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21440" y="6445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948360" y="6418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5344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8036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885080" y="6445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12000" y="6418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1708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24400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748720" y="6445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675640" y="6418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-181080" y="6453360"/>
            <a:ext cx="5473800" cy="21564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-252360" y="7029360"/>
            <a:ext cx="20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839960" y="6813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8399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05596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27160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8760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70360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9192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1352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3512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56724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7828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9988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2148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3088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64652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86252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07852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2941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101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7261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4216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15780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37380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58980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8054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0214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723744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45344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6690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8850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810108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31708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53272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74872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964720" y="6813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91803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9396360" y="6813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-2268360" y="0"/>
            <a:ext cx="232704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-2268000" y="326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-2268720" y="693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-2269080" y="1046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-2268360" y="1406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-2268720" y="1766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-2268720" y="21272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-2268360" y="24876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-2269080" y="284796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-2268000" y="32083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-2268000" y="3568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-2268360" y="392904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-2268360" y="42894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-2268360" y="464976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-2267280" y="50101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-2266560" y="5370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-2268000" y="56545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-2269080" y="6083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-2268360" y="6375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-2267640" y="66628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-2268000" y="38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9144000" y="0"/>
            <a:ext cx="973080" cy="717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587920"/>
            <a:ext cx="12236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4720" y="1557360"/>
            <a:ext cx="4321080" cy="4822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5440" y="4076640"/>
            <a:ext cx="2735280" cy="2158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387520"/>
            <a:ext cx="72216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PEG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2492280"/>
            <a:ext cx="6476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4" idx="3"/>
            <a:endCxn id="45" idx="1"/>
          </p:cNvCxnSpPr>
          <p:nvPr/>
        </p:nvCxnSpPr>
        <p:spPr>
          <a:xfrm flipV="1">
            <a:off x="982440" y="2653920"/>
            <a:ext cx="268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468720" y="1844640"/>
            <a:ext cx="125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C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855440" y="507744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GA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57840" y="2036880"/>
            <a:ext cx="16574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4200" y="2781360"/>
            <a:ext cx="0" cy="431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4200" y="2781360"/>
            <a:ext cx="5029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59120" y="328464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94320" y="453384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23200" y="1915920"/>
            <a:ext cx="17280" cy="18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0160" y="5106960"/>
            <a:ext cx="1195200" cy="77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9960" y="3105000"/>
            <a:ext cx="7920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9960" y="2452680"/>
            <a:ext cx="1181160" cy="6552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02400" y="3841920"/>
            <a:ext cx="1440" cy="161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6160" y="4508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42040" y="4229280"/>
            <a:ext cx="742680" cy="639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ster Mode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4255920"/>
            <a:ext cx="936360" cy="518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deo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7080" y="5013360"/>
            <a:ext cx="12240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5800" y="3811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41600" y="3429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251320" y="5227560"/>
            <a:ext cx="906480" cy="655200"/>
            <a:chOff x="5251320" y="5227560"/>
            <a:chExt cx="906480" cy="655200"/>
          </a:xfrm>
        </p:grpSpPr>
        <p:sp>
          <p:nvSpPr>
            <p:cNvPr id="66" name=""/>
            <p:cNvSpPr/>
            <p:nvPr/>
          </p:nvSpPr>
          <p:spPr>
            <a:xfrm>
              <a:off x="5322960" y="5298840"/>
              <a:ext cx="834840" cy="56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1320" y="5227560"/>
              <a:ext cx="863640" cy="655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E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64200" y="3284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13192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023560" y="23202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43480" y="184464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03840" y="3105000"/>
            <a:ext cx="7207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in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560" y="3131640"/>
            <a:ext cx="423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54640" y="3068280"/>
            <a:ext cx="4237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933160" y="2791080"/>
            <a:ext cx="1223640" cy="3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opb_bram_i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59280" y="1844640"/>
            <a:ext cx="16574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38680" y="2421000"/>
            <a:ext cx="1224000" cy="6552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icroBla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1440" y="1674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man"/>
              </a:rPr>
              <a:t>IL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83120" y="1711440"/>
            <a:ext cx="716040" cy="45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ilmbc /dlm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64200" y="1668600"/>
            <a:ext cx="863640" cy="53640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-C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3960" y="186696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man"/>
              </a:rPr>
              <a:t>DL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45" idx="3"/>
            <a:endCxn id="56" idx="1"/>
          </p:cNvCxnSpPr>
          <p:nvPr/>
        </p:nvCxnSpPr>
        <p:spPr>
          <a:xfrm>
            <a:off x="1917360" y="2654280"/>
            <a:ext cx="1083240" cy="61344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2" idx="1"/>
            <a:endCxn id="41" idx="3"/>
          </p:cNvCxnSpPr>
          <p:nvPr/>
        </p:nvCxnSpPr>
        <p:spPr>
          <a:xfrm flipH="1">
            <a:off x="1566360" y="5427720"/>
            <a:ext cx="2052000" cy="55800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7308720" y="4737240"/>
            <a:ext cx="1224000" cy="73332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-Chip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5559480"/>
            <a:ext cx="1224000" cy="731160"/>
          </a:xfrm>
          <a:prstGeom prst="rect">
            <a:avLst/>
          </a:prstGeom>
          <a:solidFill>
            <a:srgbClr val="00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-Chip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4940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7800" y="5516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8690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942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Video EMC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555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XC3S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339920"/>
            <a:ext cx="6264000" cy="5184720"/>
          </a:xfrm>
          <a:prstGeom prst="roundRect">
            <a:avLst>
              <a:gd name="adj" fmla="val 10148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1840" y="145404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tan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7120" y="3789360"/>
            <a:ext cx="403200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360" y="1844640"/>
            <a:ext cx="2006640" cy="1179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486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7360" y="5745240"/>
            <a:ext cx="10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 R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6093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2228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JPEG Decoder System Block Diagram</a:t>
            </a:r>
            <a:endParaRPr b="1" lang="en-US" sz="32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53640" y="1422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lock diagram of 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1280" y="4149720"/>
            <a:ext cx="8821800" cy="252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Off-Chip SRAM Read Cycle</a:t>
            </a:r>
            <a:endParaRPr b="1" lang="en-US" sz="32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3168720" y="5302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159600" y="5301720"/>
            <a:ext cx="71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71960" y="5587560"/>
            <a:ext cx="2087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5302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3800" y="53020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6520" y="5302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530064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3412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232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1192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010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972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788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6680" y="6437160"/>
            <a:ext cx="58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08560" y="6315120"/>
            <a:ext cx="2255760" cy="264960"/>
          </a:xfrm>
          <a:prstGeom prst="hexagon">
            <a:avLst>
              <a:gd name="adj" fmla="val 2581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5600" y="6437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08320" y="6437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5720" y="4764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0680" y="5294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40" y="62946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DQ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2436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36720" y="21398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944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0832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920" y="19098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OPB_SRAM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28920" y="9079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49640" y="9079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7160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888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3052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92104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9232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27960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64176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304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006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7196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3624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3376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72140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9268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08320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448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4212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1340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80392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7520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6284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3412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52464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592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8356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5484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24536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042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7556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79660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7360" y="155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2500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9628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3240" y="4724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Book Antiqua"/>
              </a:rPr>
              <a:t>Fix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68920" y="9079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87840" y="9079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32680" y="9079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9600" y="184644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232680" y="184644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2432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79920" y="529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614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91600" y="530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71960" y="6243480"/>
            <a:ext cx="311040" cy="0"/>
          </a:xfrm>
          <a:prstGeom prst="line">
            <a:avLst/>
          </a:prstGeom>
          <a:ln w="1908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99120" y="5958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cc"/>
                </a:solidFill>
                <a:latin typeface="Book Antiqua"/>
              </a:rPr>
              <a:t>T</a:t>
            </a:r>
            <a:r>
              <a:rPr b="1" lang="zh-TW" sz="1400" spc="-1" strike="noStrike">
                <a:solidFill>
                  <a:srgbClr val="0033cc"/>
                </a:solidFill>
                <a:latin typeface="Book Antiqua"/>
              </a:rPr>
              <a:t>AA</a:t>
            </a:r>
            <a:r>
              <a:rPr b="1" lang="zh-TW" sz="1800" spc="-1" strike="noStrike">
                <a:solidFill>
                  <a:srgbClr val="0033cc"/>
                </a:solidFill>
                <a:latin typeface="Book Antiqua"/>
              </a:rPr>
              <a:t>,max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06760" y="6157800"/>
            <a:ext cx="0" cy="43200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9640" y="6157800"/>
            <a:ext cx="4680" cy="44604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880" y="5803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3520" y="5888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160" y="1333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1240" y="98100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1600" y="92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284640"/>
            <a:ext cx="590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5080" y="328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28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3360" y="2997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Sl_D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61440" y="411156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ff-Chip S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908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40320" y="357336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5440" y="36385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Sl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48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33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2736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1176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58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798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642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82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516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0068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32680" y="357336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396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912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85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90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56320" y="38606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46840" y="38606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344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250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423040" y="299736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30640" y="32846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33960" y="328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4320" y="299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83400" y="299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25960" y="2997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15040" y="299736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86680" y="328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0" y="328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360" y="4357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3240" y="5084640"/>
            <a:ext cx="63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3240" y="5877000"/>
            <a:ext cx="63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01960" y="2349360"/>
            <a:ext cx="2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2800" y="2487600"/>
            <a:ext cx="2930400" cy="287280"/>
          </a:xfrm>
          <a:prstGeom prst="hexagon">
            <a:avLst>
              <a:gd name="adj" fmla="val 21865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8240" y="242100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B_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67600" y="2492280"/>
            <a:ext cx="2519280" cy="287280"/>
          </a:xfrm>
          <a:prstGeom prst="hexagon">
            <a:avLst>
              <a:gd name="adj" fmla="val 1879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58920" y="2492280"/>
            <a:ext cx="1150920" cy="287280"/>
          </a:xfrm>
          <a:prstGeom prst="hexagon">
            <a:avLst>
              <a:gd name="adj" fmla="val 2596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01960" y="2349360"/>
            <a:ext cx="2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0" y="1844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4720" y="4419720"/>
            <a:ext cx="2232000" cy="287280"/>
          </a:xfrm>
          <a:prstGeom prst="hexagon">
            <a:avLst>
              <a:gd name="adj" fmla="val 3373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437000"/>
            <a:ext cx="2519640" cy="287280"/>
          </a:xfrm>
          <a:prstGeom prst="hexagon">
            <a:avLst>
              <a:gd name="adj" fmla="val 1880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09960" y="4437000"/>
            <a:ext cx="1914480" cy="287280"/>
          </a:xfrm>
          <a:prstGeom prst="hexagon">
            <a:avLst>
              <a:gd name="adj" fmla="val 3316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39760" y="4292640"/>
            <a:ext cx="25272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75640" y="1197000"/>
            <a:ext cx="3952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0720" y="213372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70560"/>
            <a:ext cx="48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ming diagram of video_emc_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rot="10800000">
            <a:off x="3247560" y="3069720"/>
            <a:ext cx="3095640" cy="287640"/>
          </a:xfrm>
          <a:custGeom>
            <a:avLst/>
            <a:gdLst>
              <a:gd name="textAreaLeft" fmla="*/ 310680 w 3095640"/>
              <a:gd name="textAreaRight" fmla="*/ 2784960 w 3095640"/>
              <a:gd name="textAreaTop" fmla="*/ 28800 h 287640"/>
              <a:gd name="textAreaBottom" fmla="*/ 2588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847" y="21600"/>
                </a:lnTo>
                <a:lnTo>
                  <a:pt x="753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280" y="4149720"/>
            <a:ext cx="8893440" cy="252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36840" y="2487600"/>
            <a:ext cx="2930760" cy="287280"/>
          </a:xfrm>
          <a:prstGeom prst="hexagon">
            <a:avLst>
              <a:gd name="adj" fmla="val 2186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54720" y="5770080"/>
            <a:ext cx="71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5280" y="606420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34000" y="576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6453360"/>
            <a:ext cx="589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10000" y="645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2360" y="64533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840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112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63840" y="2139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22360" y="21398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43320" y="9097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64040" y="9097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57328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4492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93544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0672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9400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6564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65616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2744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1472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8636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3768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3544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708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509760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6888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45616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2780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81832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8960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7688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3904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1032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9760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6924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725976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3104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61832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8996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7980480" y="127008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51760" y="155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339040" y="127008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410680" y="1270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08960" y="467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Book Antiqua"/>
              </a:rPr>
              <a:t>Fix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2960" y="9097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02240" y="9097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6720" y="909720"/>
            <a:ext cx="0" cy="590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294000" y="184644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6246360" y="184644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9240" y="53053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Book Antiqu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65640" y="98100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66000" y="92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02760" y="407664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ff-Chip S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52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54720" y="357336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924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892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733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77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4176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58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102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42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782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626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656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600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1508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6720" y="357336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1836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056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929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834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707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612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0485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3904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459640" y="38606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7328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5108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6380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57769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160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704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19400" y="57769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492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764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1508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2780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8964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0236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64200" y="57769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7692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3912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5184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11368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2640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00960" y="5776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14720" y="4419720"/>
            <a:ext cx="2232000" cy="287280"/>
          </a:xfrm>
          <a:prstGeom prst="hexagon">
            <a:avLst>
              <a:gd name="adj" fmla="val 3373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5300640"/>
            <a:ext cx="63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0000" y="5013360"/>
            <a:ext cx="633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0072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32720" y="2133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4836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8036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96360" y="2133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1200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2800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44000" y="2133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45964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21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640" y="242100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B_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" y="4764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0680" y="5294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7240" y="62946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DQ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920" y="19098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OPB_SRAM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0880" y="5803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2160" y="1333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5800" y="29973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B_D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5440" y="36385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Sl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360" y="4357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</a:rPr>
              <a:t>Mem_A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88000" y="5805360"/>
            <a:ext cx="696960" cy="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63880" y="54388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cc"/>
                </a:solidFill>
                <a:latin typeface="Book Antiqua"/>
              </a:rPr>
              <a:t>T</a:t>
            </a:r>
            <a:r>
              <a:rPr b="1" lang="zh-TW" sz="1400" spc="-1" strike="noStrike">
                <a:solidFill>
                  <a:srgbClr val="0033cc"/>
                </a:solidFill>
                <a:latin typeface="Book Antiqua"/>
              </a:rPr>
              <a:t>PWE</a:t>
            </a:r>
            <a:r>
              <a:rPr b="1" lang="zh-TW" sz="1800" spc="-1" strike="noStrike">
                <a:solidFill>
                  <a:srgbClr val="0033cc"/>
                </a:solidFill>
                <a:latin typeface="Book Antiqua"/>
              </a:rPr>
              <a:t>,min=8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1640" y="2492280"/>
            <a:ext cx="2519640" cy="287280"/>
          </a:xfrm>
          <a:prstGeom prst="hexagon">
            <a:avLst>
              <a:gd name="adj" fmla="val 1880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73320" y="2492280"/>
            <a:ext cx="1150920" cy="287280"/>
          </a:xfrm>
          <a:prstGeom prst="hexagon">
            <a:avLst>
              <a:gd name="adj" fmla="val 2596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16000" y="2349360"/>
            <a:ext cx="2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48000" y="1844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00360" y="3357720"/>
            <a:ext cx="58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38360" y="33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51080" y="33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27640" y="4437000"/>
            <a:ext cx="2519640" cy="287280"/>
          </a:xfrm>
          <a:prstGeom prst="hexagon">
            <a:avLst>
              <a:gd name="adj" fmla="val 1880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675640" y="1197000"/>
            <a:ext cx="3952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09960" y="4437000"/>
            <a:ext cx="1914480" cy="287280"/>
          </a:xfrm>
          <a:prstGeom prst="hexagon">
            <a:avLst>
              <a:gd name="adj" fmla="val 4319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39760" y="4292640"/>
            <a:ext cx="25272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68720" y="6310440"/>
            <a:ext cx="2232000" cy="287280"/>
          </a:xfrm>
          <a:prstGeom prst="hexagon">
            <a:avLst>
              <a:gd name="adj" fmla="val 33739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Book Antiqua"/>
              </a:rPr>
              <a:t>Off-Chip SRAM Write Cycle</a:t>
            </a:r>
            <a:endParaRPr b="1" lang="en-US" sz="3200" spc="-1" strike="noStrike">
              <a:solidFill>
                <a:srgbClr val="0000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ook Antiqua"/>
              </a:rPr>
              <a:t>-----------------------------------</a:t>
            </a: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0000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18728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7668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90656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7820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66920" y="7668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625840" y="7668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9712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928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86200" y="7668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34476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640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7820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05120" y="7668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064040" y="7668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3532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9748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4400" y="7668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78296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5460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16400" y="10540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43680" y="7668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0224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7388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3568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62600" y="7668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221520" y="7668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9280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5496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1880" y="7668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940440" y="766800"/>
            <a:ext cx="7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2080" y="766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7388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00800" y="7668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659720" y="7668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31000" y="7668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93160" y="1054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20080" y="7668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625840" y="141444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697120" y="1413000"/>
            <a:ext cx="4251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272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6544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77800" y="1701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9052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0324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29080" y="1989000"/>
            <a:ext cx="2879640" cy="287640"/>
          </a:xfrm>
          <a:prstGeom prst="hexagon">
            <a:avLst>
              <a:gd name="adj" fmla="val 30358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36760" y="2131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49480" y="2131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62200" y="2131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74920" y="2131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87280" y="21319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00000" y="2131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2728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4800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872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8944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1016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3088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5160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48360" y="1413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170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08720" y="1700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97800" y="170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86880" y="170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75600" y="170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464680" y="170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0872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9744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8652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75240" y="21304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6432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5340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600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18240" y="21304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00840" y="21304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8344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6604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48640" y="21304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00360" y="2637000"/>
            <a:ext cx="2879640" cy="287280"/>
          </a:xfrm>
          <a:prstGeom prst="hexagon">
            <a:avLst>
              <a:gd name="adj" fmla="val 30396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08400" y="2779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20760" y="27795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33480" y="2779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46200" y="2779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58920" y="2779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1640" y="2779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8000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690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5780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68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5600" y="27781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246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072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898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724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550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4376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720280" y="27781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3676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622600" y="3429000"/>
            <a:ext cx="7128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693880" y="3427560"/>
            <a:ext cx="425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4948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220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7492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3716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0000" y="3716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45480" y="34275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1676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0584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9456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8364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461440" y="3714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 flipV="1">
            <a:off x="7524720" y="242064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35280" y="4890960"/>
            <a:ext cx="1195560" cy="77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509" name=""/>
          <p:cNvSpPr/>
          <p:nvPr/>
        </p:nvSpPr>
        <p:spPr>
          <a:xfrm>
            <a:off x="222120" y="1486080"/>
            <a:ext cx="2232000" cy="12967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6680" y="2101680"/>
            <a:ext cx="72216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PEG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19200" y="2101680"/>
            <a:ext cx="64764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0" idx="3"/>
            <a:endCxn id="511" idx="1"/>
          </p:cNvCxnSpPr>
          <p:nvPr/>
        </p:nvCxnSpPr>
        <p:spPr>
          <a:xfrm>
            <a:off x="1168560" y="2369880"/>
            <a:ext cx="342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868320" y="1557360"/>
            <a:ext cx="98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78120" y="2889360"/>
            <a:ext cx="79236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14920" y="1949400"/>
            <a:ext cx="1181160" cy="6552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651640" y="3544920"/>
            <a:ext cx="1440" cy="161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11640" y="44085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03640" y="3905280"/>
            <a:ext cx="1368720" cy="456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ter Mode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22560" y="3905280"/>
            <a:ext cx="792360" cy="518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14920" y="419256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62200" y="4797360"/>
            <a:ext cx="12240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20000" y="3975120"/>
            <a:ext cx="1224000" cy="733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board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20000" y="4797360"/>
            <a:ext cx="1224000" cy="73116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board S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kb x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41752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659640" y="537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59640" y="4148280"/>
            <a:ext cx="0" cy="124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156360" y="5372280"/>
            <a:ext cx="520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438400" y="3382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291280" y="5013360"/>
            <a:ext cx="906480" cy="655200"/>
            <a:chOff x="5291280" y="5013360"/>
            <a:chExt cx="906480" cy="655200"/>
          </a:xfrm>
        </p:grpSpPr>
        <p:sp>
          <p:nvSpPr>
            <p:cNvPr id="530" name=""/>
            <p:cNvSpPr/>
            <p:nvPr/>
          </p:nvSpPr>
          <p:spPr>
            <a:xfrm>
              <a:off x="5362920" y="5084640"/>
              <a:ext cx="834840" cy="56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91280" y="5013360"/>
              <a:ext cx="863640" cy="655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110120" y="321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11" idx="3"/>
            <a:endCxn id="514" idx="1"/>
          </p:cNvCxnSpPr>
          <p:nvPr/>
        </p:nvCxnSpPr>
        <p:spPr>
          <a:xfrm>
            <a:off x="2176200" y="2369880"/>
            <a:ext cx="1492920" cy="68148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6213600" y="3141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050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2994840" y="2413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48440" y="256536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32000" y="5229360"/>
            <a:ext cx="1224000" cy="7948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21" idx="1"/>
            <a:endCxn id="538" idx="3"/>
          </p:cNvCxnSpPr>
          <p:nvPr/>
        </p:nvCxnSpPr>
        <p:spPr>
          <a:xfrm flipH="1">
            <a:off x="2564640" y="5211720"/>
            <a:ext cx="978840" cy="36432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73400" y="3573360"/>
            <a:ext cx="528624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53240" y="2852640"/>
            <a:ext cx="720720" cy="304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in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24720" y="2706480"/>
            <a:ext cx="423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30800" y="2707920"/>
            <a:ext cx="4237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32520" y="2852640"/>
            <a:ext cx="129708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opb_bram_i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753160" y="2205000"/>
            <a:ext cx="2448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1917720"/>
            <a:ext cx="1224000" cy="6552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icroBla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156160" y="20145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L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45200" y="1965240"/>
            <a:ext cx="716040" cy="45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ilmbc /dlm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20080" y="1917720"/>
            <a:ext cx="863280" cy="5364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C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19640" y="44370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2792160" y="463284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GA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flipV="1">
            <a:off x="1187280" y="691920"/>
            <a:ext cx="14472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9052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03240" y="170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87280" y="22780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2278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187280" y="19044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58920" y="18900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0200" y="18900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63640" y="69228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5640" y="1052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33856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292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1456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0656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48948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3384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6548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5748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64040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8476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1640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0840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79132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3568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6732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5932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694224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660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1824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1024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093160" y="691920"/>
            <a:ext cx="14436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37520" y="692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669160" y="69228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661160" y="105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7:08:49Z</dcterms:created>
  <dc:creator>MIS</dc:creator>
  <dc:description/>
  <dc:language>en-US</dc:language>
  <cp:lastModifiedBy>steel</cp:lastModifiedBy>
  <dcterms:modified xsi:type="dcterms:W3CDTF">2005-08-26T07:59:35Z</dcterms:modified>
  <cp:revision>1541</cp:revision>
  <dc:subject/>
  <dc:title>Slide 1</dc:title>
</cp:coreProperties>
</file>